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273-BAAB-4B77-B51F-D536A01B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BF5-E2C2-4CE5-8E77-8232E50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1CE-7ED1-4454-B365-9D4F5C02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E0A-EC11-43E4-BED4-643A0C02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ADEE-F54E-4AF3-AD81-6C7380CF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C33B-6EC7-429E-A07A-5536B0D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D614-4DB5-4E03-A135-21804A7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8AB5-EB7C-4FB2-84FD-852EC21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AD74-0DF0-4AF7-9022-BA72B35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30F0-6570-4C94-B25F-6C7A672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D4D-A459-4F31-95A3-74C2E95C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23B-A8F1-4657-A0E1-2F8E07E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E1B9-AC54-471B-A225-0762100E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D632-DBD7-46BA-9901-61DB358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5000-35A4-433A-96AA-1E80EC03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D9A8-87EC-4D97-9DD0-A1AB444D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F288-5B83-4F44-97C9-F18D90E5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3B9-AA63-4EF5-A7DA-516D848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DDD-2752-4F90-843E-753BE61E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3CE-3A97-467B-8BF2-03C3E84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F06-446F-4372-9C91-52013A43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807-4813-44B8-BD13-1EF75F3B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F56-3DD9-43C3-8F46-BCBD41A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F04-91F3-4440-901E-2283529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10/03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316560"/>
            <a:ext cx="2895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a cura di Leda ZOC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248-A485-4C29-9784-BAA23C6A60F1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Integrazione1" descr=""/>
          <p:cNvPicPr/>
          <p:nvPr/>
        </p:nvPicPr>
        <p:blipFill>
          <a:blip r:embed="rId2"/>
          <a:stretch/>
        </p:blipFill>
        <p:spPr>
          <a:xfrm>
            <a:off x="7773840" y="228600"/>
            <a:ext cx="9050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4AB2-5729-4324-B60F-F697A543C8E5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GETTO SAM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ncontro conclusivo anno scolastico 2002/2003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18 giugno 2003 - Ud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3624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Lucida Sans"/>
              </a:rPr>
              <a:t>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4" marL="3624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Lucida Sans"/>
              </a:rPr>
              <a:t>	</a:t>
            </a:r>
            <a:r>
              <a:rPr b="0" lang="it-IT" sz="1600" spc="-1" strike="noStrike">
                <a:solidFill>
                  <a:srgbClr val="0033cc"/>
                </a:solidFill>
                <a:latin typeface="Arial"/>
                <a:ea typeface="Times New Roman"/>
              </a:rPr>
              <a:t>PROPOSTE PER LA REALIZZAZIONE DEL PROGETTO: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33cc"/>
                </a:solidFill>
                <a:latin typeface="Lucida Sans Unicode"/>
              </a:rPr>
              <a:t>Stranieri: Accoglienza e Mediazion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lvl="4" marL="3624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cc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lvl="4" marL="3624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cc"/>
                </a:solidFill>
                <a:latin typeface="Lucida Sans Unicode"/>
              </a:rPr>
              <a:t>	</a:t>
            </a:r>
            <a:r>
              <a:rPr b="0" lang="it-IT" sz="1800" spc="-1" strike="noStrike">
                <a:solidFill>
                  <a:srgbClr val="0033cc"/>
                </a:solidFill>
                <a:latin typeface="Lucida Sans"/>
              </a:rPr>
              <a:t>linee progettuali</a:t>
            </a:r>
            <a:r>
              <a:rPr b="1" lang="it-IT" sz="1400" spc="-1" strike="noStrike">
                <a:solidFill>
                  <a:srgbClr val="0033cc"/>
                </a:solidFill>
                <a:latin typeface="Lucida Sans Unicode"/>
              </a:rPr>
              <a:t>- </a:t>
            </a:r>
            <a:r>
              <a:rPr b="1" lang="it-IT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a.s. 2003-2004</a:t>
            </a:r>
            <a:br>
              <a:rPr sz="1400"/>
            </a:b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lvl="4" marL="362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Lucida Sans"/>
              </a:rPr>
              <a:t>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LogoIntegrazione1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2666880" cy="248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56386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33cc"/>
                </a:solidFill>
                <a:latin typeface="Arial"/>
              </a:rPr>
              <a:t>A cura di :    dott.ssa Daniela Cellie  e dott.ssa Leda Zocchi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Wingdings"/>
                <a:ea typeface="Wingdings"/>
              </a:rPr>
              <a:t></a:t>
            </a:r>
            <a:r>
              <a:rPr b="1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it-IT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Ridefinizione della rete e nuova convenzion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n base alla valutazione del percorso effettuato dalle scuole aderenti alla rete nel corrente anno scolastico si propone una ridefinizione organizzativa della rete ed una riprogettazione complessiva del percorso: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1)</a:t>
            </a:r>
            <a:r>
              <a:rPr b="1" lang="it-IT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creazione di un gruppo di scuole polo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che fungano da centro servizi per le altre scuole del progetto SAM: 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.C. Giacich di Monfalcone, IV Circolo Didattico di  Udine, II Circolo Didattico di Tries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1 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bis)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 le stesse scuole fungono da punto di riferimento anche per altre istituzioni scolastiche nel territorio, rispetto a documentazione, procedure, materiali di valutazione degli alunni stranieri, informazioni circa enti ed associazioni operanti nel territorio, 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2)</a:t>
            </a:r>
            <a:r>
              <a:rPr b="1" lang="it-IT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 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CTP  (I.C. S.Giovanni di Trieste  e S.M.S. Via Petrarca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i Udine)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offrono un servizio di formazione e consulenza alle scuole della rete, relativamente alla 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certificazione delle competenze linguistiche degli alunni stranieri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3)</a:t>
            </a:r>
            <a:r>
              <a:rPr b="1" lang="it-IT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 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ndividuazione delle altre scuole della rete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Symbol"/>
                <a:ea typeface="Symbol"/>
              </a:rPr>
              <a:t>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Proposta alle altre 5 scuole della rete di prosecuzione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dell’esperienza mediante trasmissione della revisione del progetto con allegato il preventivo di spesa dettagliato entro il 30 agosto 2003 e sottoscrizione del nuovo protocollo d’intesa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Symbol"/>
                <a:ea typeface="Symbol"/>
              </a:rPr>
              <a:t>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Proposta di allargamento della rete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ramite proposta ad alcune  scuole delle aree a forte processo immigratorio con richiesta di presentare entro il 30 agosto 2003 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 una dichiarazione di interesse al progetto stesso e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l’accettazione degli   impegni richiesti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 le esperienze pregresse in campo interculturale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 il progetto con allegato il preventivo di spesa 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dettagliato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4) </a:t>
            </a:r>
            <a:r>
              <a:rPr b="0" lang="it-IT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utte le scuole, individuate dopo la valutazione dei progetti,  si impegnano  a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 realizzare quanto previsto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 ad inviare le delibere degli OO.CC. competenti entro il 30 settembre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 ad inviare le nomine del  referente e del gruppo di progetto entro il 30 settembre 2003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0000cc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idefinizione degli impegni dell’USR- FVG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stipula della nuova convenzione con il SAI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2. stipula del nuovo  protocollo d’intesa con le scuole  aderenti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3. riconoscimento formale del ruolo di scuole polo e di scuole aderenti alla rete SAM, per le istituzioni scolastiche che deliberano l’adesione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4. supporto organizzativo alla scuola capofila della rete e partecipazione dei propri referenti agli incontri di giunta e di ret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5. stanziamento di una quota per il supporto alle attività della rete (€ 10.000)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6. supporto progettuale e di consulenza alle scuole della ret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7. inserimento nel sito della direzione regionale di un’area dedicata al progetto SAM, con indicazione delle scuole polo e pubblicazione della documentazione prodott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8. supporto alla produzione della documentazione relativa al progetto con diffusione alle altre istituzioni scolastiche della regione e a livello nazional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9.  partecipazione al comitato di coordinamento ed al comitato di valutazione del progetto SAM e supporto tecnico alle procedure di valutazione (predisposizione degli strumenti di valutazione, analisi e valutazione dei dati)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10. promozione, organizzazione e coordinamento  delle attività di formazione della rete sulle tematiche dell’intercultura 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</a:t>
            </a:r>
            <a:r>
              <a:rPr b="1" lang="it-IT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idefinizione degli impegni del SAI</a:t>
            </a:r>
            <a:br>
              <a:rPr sz="28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.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stipula della nuova convenzione con il MIUR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2. erogazione dei fondi alle scuole della rete (€ 200.000 nella misura del 50 % subito e di due successive rate del 25% in prosecuzione e a completamento dei lavori)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3. finanziamento degli atti del convegno “InterculturalMENTE: per una scuola senza confini” svoltosi in data 10 marzo 2003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4. partecipazione agli incontri di giunta e di rete, con propri referent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5. partecipazione al comitato di coordinamento ed al comitato di valutazione del progetto SAM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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idefinizione degli impegni delle scuole</a:t>
            </a:r>
            <a:br>
              <a:rPr sz="28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1.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richiesta di adesione al progetto e sottoscrizione dell’impegno a realizzare tutte le proposte deliberandole entro il  30 settembr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2. invio del progetto accompagnato da un bilancio preventivo e dettagliato delle azioni da intraprendere, impegnandosi alla stesura di un bilancio consuntivo con nota illustrativa da inviare al SAI entro il 30 agosto 2004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3. inseriscono il progetto SAM nel proprio POF, come parte integrante dell’area intercultura della propria istituzione  e acconsentono alla sua pubblicazione nel sito della direzion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4. individuazione   e nomina formale di un referente, responsabile del progetto SAM  con la funzione di raccordo con i referenti del MIUR e SAI, da trasmettere entro il 30 settembre 2003 alla Direzione Regionale (non sono ammissibili forme di alternanza all’interno della stessa istituzione scolastica)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5. costituzione e nomina di un gruppo di lavoro/commissione/…. mirato al coordinamento, alla gestione, alla documentazione, alla verifica delle attività complessive dell’area interculturale dell’istituto da trasmettere entro il 30 settembre  alla Direzione Regional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6. impegno a  scambiare  tutti i materiali utilizzati, anche  tramite pubblicazione sul sito della Direzione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7.</a:t>
            </a:r>
            <a:r>
              <a:rPr b="0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impegno a partecipare alle attività definite dalla rete SAM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04920"/>
            <a:ext cx="746748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8. impegno all’utilizzo dei fondi  secondo i seguenti parametri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  sono ammissibili spese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fino al 4% per ore di progettazione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fino al 7% per  materiali 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fino al 20% per attività realizzate in convenzione con associazioni estern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(sono esclusi da questo importo i contratti stipulati tra la scuola e i singoli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mediatori)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  il restante finanziamento va utilizzato per le attività didattiche interne all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 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scuol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9. in caso di fruizione dei corsi FSE –UE, o altri fondi, l’istituzione si impegna a utilizzarli con gruppi differenziati di alunni e comunque in un piano programmatico complessivo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10.</a:t>
            </a:r>
            <a:r>
              <a:rPr b="0" lang="it-IT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le istituzioni scolastiche, si impegnano a fornire al comitato di valutazione, secondo le scadenze indicate informazioni su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gli alunni stranieri, la loro carriera scolastica, i risultati di apprendimento, le procedure di inserimento ed accoglienza, le procedure di valutazione delle competenze di base,  le iniziative di  sviluppo e supporto dell’apprendimento linguistico, le forme di collaborazione con le famiglie con il territorio, le modalità di progettazione, lo sviluppo del curricolo interculturale….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11. impegno a realizzare attività di formazione sul tema intercultura, organizzate sia singolarmente,  sia in rete, e a garantire la presenza dei propri referenti alle iniziative di  formazione previste nel progetto e alle attività di coordinamento della rete (fatti salvi gli inderogabili obblighi di servizio)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53352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Scadenze finali del progetto S.A.M. a.s. 2002-2003: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entro il 31 agosto 2003 inviare a SAI e USR conto consuntivo e relazione finale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entro il 31 agosto 2003 inviare all’USR il materiali utilizzati con gli alunni e i materiali prodotti, ai fini di una pubblicazione degli stessi sul sito della Direzione Regionale ( e pertanto informatizzati e con breve nota esplicativa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5:06:17Z</dcterms:created>
  <dc:creator>Ufficio Scolastico Regionale</dc:creator>
  <dc:description/>
  <dc:language>en-US</dc:language>
  <cp:lastModifiedBy>Un utente soddisfatto di Microsoft Office</cp:lastModifiedBy>
  <dcterms:modified xsi:type="dcterms:W3CDTF">2003-07-15T10:25:21Z</dcterms:modified>
  <cp:revision>51</cp:revision>
  <dc:subject/>
  <dc:title>L’educazione interculturale in Friuli Venezia Giulia</dc:title>
</cp:coreProperties>
</file>